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075-55B3-4FDE-91E6-22587F91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E1E-7942-4FFC-8408-975F892D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70A-48CD-4D10-8BF7-BF52D82B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324-156F-4625-94BF-8B5C80C6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435-F1AD-49B0-9170-B027531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60C-97D9-4931-852C-36FBE0B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559-CC17-4A05-8B80-957C439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B4C-4204-41E9-ACE5-4FF74CD3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91F-F3BC-4527-8CF3-D013A1A3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163-E2F8-43C6-A5D1-0F74AAC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989-863B-478F-9AA0-59D934B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4A5-DF66-429E-BA7D-2FC458D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0A1-F6B8-40D3-B336-0D689525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wed random effect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Model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model in Section 14.2 of Skrondal and Rabe-Hesketh (2004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lized Latent Variable Modeling: Multilevel, Longitudinal and Structural Equation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pman &amp;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normal distribution with a skewed distribution for the rando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2 Diet and 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 measurement erro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7 middle aged men (bank, transpor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quirement: weigh thei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measurement for 76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disease or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(nume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(0,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sure model (true fiber int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fiber intak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nb-NO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mod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 = 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(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nd run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ata in R: ”diet.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mpil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admb -re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Laplace approx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Gauss-Hermite app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 -gh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kewed distributions f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ondal and Rable-Hes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ribution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n-parametric distribution (Fig. 14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ewed distribution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[ex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ex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(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k021</cp:lastModifiedBy>
  <dcterms:modified xsi:type="dcterms:W3CDTF">2006-03-01T11:54:02Z</dcterms:modified>
  <cp:revision>52</cp:revision>
  <dc:subject/>
  <dc:title>PowerPoint Presentation</dc:title>
</cp:coreProperties>
</file>