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B863-DCA2-43B6-BE60-C643CB107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B70B-223B-42FF-90F3-049283265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B122-A369-45B4-B6EB-89BD8BA58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BBD4-725C-49C7-893D-B9F05397E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A3A1-AF7F-4CF4-80AF-460C2B1FE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BADA-4C6F-4BE5-8F1C-227FC369B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4D79-1E18-4220-96D1-CCF379478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D673-AE3F-4617-B5C0-FF77476CA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C187-D4F1-4B84-941F-FABBB71F9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650A-CC78-4F92-8EFE-D41D6914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D13D-A7D5-491E-9F80-F03DD790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C1C3-49E4-492D-B757-2401C281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3957F-AE11-420A-9AC3-D8670D88AB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kewed random effects 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 Model Buil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yse model in Section 14.2 of Skrondal and Rabe-Hesketh (2004)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eneralized Latent Variable Modeling: Multilevel, Longitudinal and Structural Equation Mode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Chapman &amp; H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normal distribution with a skewed distribution for the random eff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4.2 Diet and heart dise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variate measurement error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37 middle aged men (bank, transport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requirement: weigh their f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eated measurement for 76 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rt disease or no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varia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e (numeri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s (0,1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 descri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osure model (true fiber intak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η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γ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e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γ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γ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age*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ζ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ζ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~ 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0,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sured fiber intake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,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η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l-GR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α</a:t>
            </a:r>
            <a:r>
              <a:rPr b="0" i="1" lang="nb-NO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0" i="1" lang="nb-NO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nb-NO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nb-NO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nb-NO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-1</a:t>
            </a:r>
            <a:r>
              <a:rPr b="0" lang="nb-NO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i="1" lang="el-GR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α</a:t>
            </a:r>
            <a:r>
              <a:rPr b="0" i="1" lang="nb-NO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32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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j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en-US" sz="32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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j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~ 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0,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ease model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D = 0,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it(D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η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0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e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age*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λ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η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ting up and run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data in R: ”diet.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Times New Roman"/>
              </a:rPr>
              <a:t>Compiling the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ourier New"/>
              </a:rPr>
              <a:t>admb -re di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Times New Roman"/>
              </a:rPr>
              <a:t>Running the model (Laplace approx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ourier New"/>
              </a:rPr>
              <a:t>diet -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Times New Roman"/>
              </a:rPr>
              <a:t>Running the model (Gauss-Hermite appr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ourier New"/>
              </a:rPr>
              <a:t>diet -est -gh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Times New Roman"/>
              </a:rPr>
              <a:t>Skewed distributions for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krondal and Rable-Heske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Repla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0,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distribution 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ζ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non-parametric distribution (Fig. 14.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Times New Roman"/>
              </a:rPr>
              <a:t>Skewed distribution fo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ζ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ζ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1-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[exp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-exp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]/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/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 &lt;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lt;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~ 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0,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sqrt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(e-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sqrt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(1-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sk021</cp:lastModifiedBy>
  <dcterms:modified xsi:type="dcterms:W3CDTF">2006-03-01T11:54:02Z</dcterms:modified>
  <cp:revision>52</cp:revision>
  <dc:subject/>
  <dc:title>PowerPoint Presentation</dc:title>
</cp:coreProperties>
</file>